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F63CF-7DAE-49D9-A2A6-1E12F5F2F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22760-6EE1-440E-8777-05A99C863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6FA9B0-F2FF-4E34-9795-6BD50771BC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9C9BDD-D8BC-4C93-8972-70DC6ADEFF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BAC153-7090-45BD-AFB2-35556E88D5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32A383-9C55-482E-BDA7-37A2E883F3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AED378-EBFE-4C76-9DFC-33BFC3EEE2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52A2EA-4535-49CA-8AD1-FBE807AA32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4F25CC-F1E8-4BB7-8272-B288CE6A42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42BFC2-FB7C-45D4-A0CB-597CC1A494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5FA7E1-A1F6-4D94-B657-FBFD2BE1F7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BDACF4-DB95-4B86-9412-96B6247814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95CA2-6D58-441C-ADCA-181C93CF0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440AB5-F005-4F13-B9D1-CBEB01F68B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B0DAF7-64AA-45A7-9BBA-AC98054C74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552354-BFD4-4542-A83E-7A0C8432EC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4B1451-28DC-4A67-B935-779DA4F8E3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EBC87C-F045-41E7-9C7E-E3CB76AAF1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F3DDB5-3EBB-478B-81E1-92CCFF0CD2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50918F-DDDB-4D42-800D-982EC8DBDA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D9A83C-0BCF-4CC8-9B49-2FBE7786E1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E211B2-1DDD-4C99-9C23-861716CAD7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5471D6-BDA3-447E-A433-2AB287F78D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A8F41-1C2E-46B0-93CF-0C31B97F2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5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B8B0ED-19EF-4051-9E3C-8AC781AC76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CA0D2D-3EDD-4AD2-B6E3-21530C40D2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66E1BB-2C6F-4905-8DD6-5D8426DBBD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B596B2-CF44-4A09-A676-22A67F0CD4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1CA422-F22F-465B-94D9-89E03C0AE5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6489AE-9AF2-42AE-A577-C42F2EED14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A4DE54-D318-4D51-A41F-BC5477913A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7F27E7-B3B0-400D-8FA3-9C4FD9FBF1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F09A3C-D82A-4CEF-BAB2-DB3B9A3951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53B639-52D2-4B31-93F0-B81CDB8F41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B1305-6B0B-4BE2-A8DD-3CEF9B756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289684-895A-4000-89CC-80DCB44217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AC412F1-A574-465F-B643-F4C76F6D05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FAB0EB-8686-4380-A2FB-034CFFCA55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C38024-3428-448E-98EE-D556BF5D33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DD3E87-D687-4D44-81BC-84FF9762EC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C8DC98-F1C7-4082-9D89-8779183E17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6AA4BB-8E20-40DE-BB9A-26D9EE7A6A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654334-8E5F-473F-87B6-8745905AD9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3F8DE7-C480-4421-9EB7-FDDD28C767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FDDD2E-F25A-49AB-95FC-B26F621B2C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4AE09-1E54-4E76-A37F-ACD77C1EE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1686A0-6718-4960-8B3F-189A62F0EB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AB7848-540E-407D-99FE-E581259A38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F5A21D-2AF3-45E0-8F0D-DC350EA9A0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339718-1981-40EE-8CBA-65430C74A70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B02D057-C5AC-4A29-A158-6AFCCE39C16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78C9A2-5222-4B39-98C4-6215987E3E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6340049-4A13-4DC5-9098-59377A581C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2D9730-67FA-4627-8A74-84FB60F37D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84BC95-1533-4BF9-9F2F-EB7F08E729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E17792-24AE-46B6-AFDC-4D7F1DBB9F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A5E35-9DA7-47E9-B3E3-36C16A85D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2FB3A9-4D45-4EFF-B402-3B70522673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76B47B-3DC9-49F6-A0D3-A58B827BF7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BF7BEB-879D-4330-BCF7-BCCACD6A44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611C2B-7093-4C0F-91DD-80EE7EF63A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917712-7D41-42ED-A6DC-8D95EF5165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CF97B65-E9B1-4D04-8DD6-38B0338C673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778D3AF-42EE-4739-A84B-CC57BE221A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15B148B-2BD6-4D63-843A-70DA83D5FDE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C1AD7A-A0B0-4744-85BF-D1A903C22E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FBED1A-BC25-46EE-959B-A4002D5C77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7DF5F-6E6E-4DBD-81D9-19F103C12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0140CA-BE5A-40AF-BB3D-DEB4345BFB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91D273-DBB8-43FD-B81A-E8B0C07F09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3362F43-BA84-4223-8B8A-4BA3990D729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D5AECD-26A8-4EDA-97BB-216968B5C7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D32B32-DB07-4E0B-AB79-58C585BA34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96AF5A-6B76-4B94-8E03-97491B1EEE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D42D74-766F-42C7-A342-6C2744A1F6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FABE95-92D6-431A-A1D2-9D5F3F823D0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B1A3272-D82E-4DA3-A2F9-7F4381FE4FC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06D6DE7-9BAE-4DD2-A31C-911B2560816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F7656-2447-49A0-8F77-AEE6D97E0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7FBBAB-96FF-4763-B7EF-098F71AA2CB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AA81B5-50A4-410B-9910-4171267B6C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8BCCC53-AF3D-46B4-B937-B1D809104D4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75632A-54CC-4974-B9A4-EC12A71C720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FDFB1A-D540-4FAD-9260-5CA91803822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D53AED-8C8D-4D26-AFDB-E9D7974DD3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58EECA-BB8B-4050-B1B3-F5040F9888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CC75F2-7920-43AA-9B15-CF99999A07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47D94BB-2714-4D0F-8159-EAD7E00D900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72BA7A4-4CE0-4B98-9D6D-C63EB9AF845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0452E-909F-4001-8076-85012BC4B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6BF9E18-104D-4906-BB61-B34D13E8F06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A4D75C6-9E0A-457B-ACF7-2A7E8B1E7F1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2A39441-4B40-4DA2-A19E-8EB5BCDB504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8EC8541-666B-4CDD-9561-08E8044C8EB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6C90E2-84BF-4C72-856B-7CF2945310E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EFEF3F6-BB4F-4251-8628-84F303FC2DE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088084A-B434-4C01-A394-E9B00C3298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E06A47C-1815-40C6-8488-12389BFB14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F363C1-DCBB-42A4-A94E-192C73DF15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0DA03E-65E4-47D5-8A23-CC87808785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3EA8D-DE4C-4577-88E3-AD503D275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580C8B8-DF4F-4CA1-AF3F-2AB91A6727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A198634-AB89-4258-BAE3-6F911792071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D31B5F0-3B8D-4778-8913-4C9F7125721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AB25F14-C06E-4DEA-A51C-3643A3A6B51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F7D3007-A992-4CAE-B388-73EB8970FCE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B842C43-2232-42D1-93FE-1FCAFF72F52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5DD429C-C3D8-4F1E-8EB9-D0A1DD925CA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A17B62D-B446-4D44-80F8-E12DDE87735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0E936CF-880F-4955-9B8E-85BA192CF78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0017BA7-FF8E-4A3A-A25C-1E5360796DB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0BA4D-4B0E-4492-9367-CDFDB3B99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1EBC3-DCF6-44DF-B9CE-62F9CCA1E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EE394E8-3E93-4A6D-885C-93F9798B8B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C104B63-E5E8-4FE6-91E2-61134E600D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6A303B-06C0-4A62-AF8E-99797977EA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9FD3C8C-257A-4FCA-9EAE-8BDBD797232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7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FD0BDDC-0DE8-4970-95D1-51B388727ED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B18AC-4832-4D2D-80FA-2B19023ED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26F3D-C4D8-4E51-9757-B8926B940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DD1E4-43D4-4DCE-99F5-626C9462A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D7CEE-69D3-4B08-94DD-13A70031A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1E0DDD-3CB8-476B-8EFE-81F49900B6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9F7F8-B3F5-424A-90F7-BE5B8FF12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DD8EB-2932-495B-910A-9485BF10BA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845172-AC8A-4EF8-8BC7-C12CE2A85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9FD803-7F33-4597-B700-9A75FD938E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7C471-B6FD-49DB-8490-36E4402DE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BE15B6-37DD-44E3-9104-5602E365C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758F3-88A0-4904-BD07-899A1DC60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B5B54-2C78-4C5C-A9F5-561A57362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7E5C0-575F-4208-ABB6-BD0A971C8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515B7-B764-4F75-B241-98BB8B9FC3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F8FC33-C4D3-4AFF-8B81-D3393B205A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2900C9-1E5E-437D-A560-747B3C3D14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AD2AC9-88F3-4C70-AF38-81C8A75A07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171041-735F-4C4D-86C1-8CD989E5B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9A5258-A632-4CDF-8257-7461ABDC81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64C5D-DD08-4388-866A-7EAD0BBB1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F9BFD5-B2EC-41C4-8D28-6D535F60C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D3D45-4A5F-4DBA-87A3-D13DC55FCF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69B643-E47B-4911-BF1E-8C65D39871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0D229-7E44-46A2-A6F6-E07864661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91702-70D6-442E-A36B-B4A090829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459C5-DD17-4C82-9C96-A4B604A29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D869B-A3C1-47D3-B134-4AD388952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E2B2C1-F330-44AE-862D-9BBD3B4E58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360D06-CFFD-4689-8278-39231758AC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85E6E7-2FD0-40D5-BA0C-7A12E4919B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40D63-FE4C-47ED-AA30-1CF4048D3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AC6D40-897E-43EE-B933-F9D87807B6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541823-31EB-4E6A-A491-D5A238EA06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D3F34-9ACA-4FF1-B698-109D43BD16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E9592B-607A-4647-BD25-E49D0150D0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F40949-08F7-4211-84B2-6793664279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B5C2BD-F1EA-4448-ABCB-F2CEF2CFA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C4D93-7CCF-4079-82F2-B7D144849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270E10-C246-405B-AB2B-9A2D3E65C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A562E9-E1D7-428B-B9C8-CE6F1591A1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80F94B-682C-468A-B1FE-42D30D14F4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D53D8-06DC-42DD-940E-30F607BF7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2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08174E-07CD-4833-9759-878B0ED824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5685AE-004B-4A17-AEA6-55E43B896C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D72B13-4F99-408D-881C-EADAC9D6ED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260C15-6333-403F-8D7B-874FF468BB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AE7BF0-D529-4E5B-9B38-52F4A0B631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9436FF-6E69-491D-AE38-A9CA49087C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C01615-FB09-4AF2-96EA-A896A208C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E633B-C9BA-4098-BEBB-0D38C50D2C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9CC79-93D8-4FD1-AF9A-F8F9B0463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B7E8B3-A73F-43A3-9D32-BEB0160CB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2733D-7129-4D01-84C0-9BF4C2FD4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97FCE7-26DA-4C3D-A9D3-FAE552256E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46A1D3-43BE-42DA-AEE6-6D6EE7B0CE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78A209-8DEB-4779-8FCE-73F84A2737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FF1E36-425C-432B-8690-08CDAE1608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FEAA50-ADF1-40E2-A9F3-FCDD66566B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4BE634-565C-4A1F-91C5-7EDCF4F748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660C32-98DD-4902-AE76-163EBFB371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4DF867-328C-4982-A7D8-984AFB8C6D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6CB520-604E-442F-874A-FA1C0C6B76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CA5A1F-1954-4228-900A-981FB64DAD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D27C2-0496-401A-8479-1FFEB9FAE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22F69-1C2F-4A3C-B5BA-8CFF632F2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445318-CBF8-4F63-80A4-2B5C40BD2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DF50A8-23AA-4C00-8DCB-6F4404BD7B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0A82A6-1170-49F9-A3FF-B8005D1952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4F772F-3C9D-4915-8F1D-DB13594681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247578-18BF-44CC-9E28-AEB05965A4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AD1F24-0C31-436E-BD8D-9AD6FFD867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15035E-CDC6-4B88-938D-A80BB23946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5F86DB-1D29-4B82-B6A8-9A79263E90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1A72C3-08E9-4466-AD28-5897B6AE7A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1EC0-948C-45AE-A9BE-6B89E760B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3B9F59-C5D3-44C7-BB03-766133B6DB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EE3C69-111B-49F5-BBDF-EADCA60840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7D3AF-21F0-449D-BA23-27D7ECDAD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67B80-7381-40A1-A971-B215FA443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17B710-F66A-4627-91C7-34777ECBC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F29F03-181A-4D70-ACD8-83B43E21F7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6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C5A759-2C26-4087-A724-15A7641036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A360C7-2E29-4885-B4A4-2B6879A1DB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E4B076-24DC-4D33-8C77-80E824C235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612CE2-F391-4665-832C-14FF48FB90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39FD5-037E-49AF-A0E9-893D05E009A1}"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FA252-CE9E-41E7-9A2E-277585AC5645}"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4" name="Group 6"/>
          <p:cNvGrpSpPr/>
          <p:nvPr/>
        </p:nvGrpSpPr>
        <p:grpSpPr>
          <a:xfrm>
            <a:off x="284040" y="452520"/>
            <a:ext cx="8575920" cy="137880"/>
            <a:chOff x="284040" y="452520"/>
            <a:chExt cx="8575920" cy="137880"/>
          </a:xfrm>
        </p:grpSpPr>
        <p:sp>
          <p:nvSpPr>
            <p:cNvPr id="415"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6"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7"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41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20"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559E1-E69A-4F6B-99CB-6EAC13453CAA}"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421"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2"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AC62D-F63F-4DBA-AE2E-D5C9A9094F53}"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Group 6"/>
          <p:cNvGrpSpPr/>
          <p:nvPr/>
        </p:nvGrpSpPr>
        <p:grpSpPr>
          <a:xfrm>
            <a:off x="284040" y="452520"/>
            <a:ext cx="8575920" cy="137880"/>
            <a:chOff x="284040" y="452520"/>
            <a:chExt cx="8575920" cy="137880"/>
          </a:xfrm>
        </p:grpSpPr>
        <p:sp>
          <p:nvSpPr>
            <p:cNvPr id="460"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1"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46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5"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A6E89-E554-47E1-BCE7-DF56A49BAA02}"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466"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7"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009C6-F4D8-498B-BE78-504AE1FE7891}"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5" name="Group 7"/>
          <p:cNvGrpSpPr/>
          <p:nvPr/>
        </p:nvGrpSpPr>
        <p:grpSpPr>
          <a:xfrm>
            <a:off x="284040" y="6262560"/>
            <a:ext cx="8575920" cy="138240"/>
            <a:chOff x="284040" y="6262560"/>
            <a:chExt cx="8575920" cy="138240"/>
          </a:xfrm>
        </p:grpSpPr>
        <p:sp>
          <p:nvSpPr>
            <p:cNvPr id="506"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0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1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11"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9FBAF-D3FA-4BFE-AE36-1C111DCD248A}"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512"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3"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4E3146-6DB0-4FBE-8F55-B4972416177E}"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Group 8"/>
          <p:cNvGrpSpPr/>
          <p:nvPr/>
        </p:nvGrpSpPr>
        <p:grpSpPr>
          <a:xfrm>
            <a:off x="284040" y="4280040"/>
            <a:ext cx="8575920" cy="137880"/>
            <a:chOff x="284040" y="4280040"/>
            <a:chExt cx="8575920" cy="137880"/>
          </a:xfrm>
        </p:grpSpPr>
        <p:sp>
          <p:nvSpPr>
            <p:cNvPr id="551"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2"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3"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5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6"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07732-F34D-4159-ACF7-029E89C0A667}"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557"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8"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12564-3169-40AE-BCB1-9991DDA6310A}"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6" name="Group 14"/>
          <p:cNvGrpSpPr/>
          <p:nvPr/>
        </p:nvGrpSpPr>
        <p:grpSpPr>
          <a:xfrm>
            <a:off x="284040" y="461880"/>
            <a:ext cx="8575920" cy="136440"/>
            <a:chOff x="284040" y="461880"/>
            <a:chExt cx="8575920" cy="136440"/>
          </a:xfrm>
        </p:grpSpPr>
        <p:sp>
          <p:nvSpPr>
            <p:cNvPr id="597"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8"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9"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60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0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02"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ED908-30C6-4C1A-AB53-AABDBCF5AC8C}"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603"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4"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7F2F0-BCAF-4979-93E6-114417D1EEF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42" name="Group 7"/>
          <p:cNvGrpSpPr/>
          <p:nvPr/>
        </p:nvGrpSpPr>
        <p:grpSpPr>
          <a:xfrm>
            <a:off x="284040" y="6262560"/>
            <a:ext cx="8575920" cy="138240"/>
            <a:chOff x="284040" y="6262560"/>
            <a:chExt cx="8575920" cy="138240"/>
          </a:xfrm>
        </p:grpSpPr>
        <p:sp>
          <p:nvSpPr>
            <p:cNvPr id="643"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4"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5"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64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8"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B16EA-0CD9-4471-B786-D10918B882EA}"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649"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0"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61925-DC04-4C4E-BAC4-53CBE5752CCB}"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688" name="Group 7"/>
          <p:cNvGrpSpPr/>
          <p:nvPr/>
        </p:nvGrpSpPr>
        <p:grpSpPr>
          <a:xfrm>
            <a:off x="284040" y="1577880"/>
            <a:ext cx="8575920" cy="136800"/>
            <a:chOff x="284040" y="1577880"/>
            <a:chExt cx="8575920" cy="136800"/>
          </a:xfrm>
        </p:grpSpPr>
        <p:sp>
          <p:nvSpPr>
            <p:cNvPr id="68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69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9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94"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8D1B4-18DB-4402-8878-60D3EA1B630B}"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695"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6"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7C50B-D9C7-4CC4-A8F1-9F30DD77B10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734" name="Group 7"/>
          <p:cNvGrpSpPr/>
          <p:nvPr/>
        </p:nvGrpSpPr>
        <p:grpSpPr>
          <a:xfrm>
            <a:off x="7556400" y="457200"/>
            <a:ext cx="138240" cy="5934240"/>
            <a:chOff x="7556400" y="457200"/>
            <a:chExt cx="138240" cy="5934240"/>
          </a:xfrm>
        </p:grpSpPr>
        <p:sp>
          <p:nvSpPr>
            <p:cNvPr id="735"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6"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7"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73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40"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FB6A1-2F6E-4E2A-8AB5-D94C76B7444F}"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741"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42"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A1228-798C-47B0-B0BF-9667D2EF9DAC}"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 name="Group 16"/>
          <p:cNvGrpSpPr/>
          <p:nvPr/>
        </p:nvGrpSpPr>
        <p:grpSpPr>
          <a:xfrm>
            <a:off x="284040" y="1906560"/>
            <a:ext cx="8575920" cy="138240"/>
            <a:chOff x="284040" y="1906560"/>
            <a:chExt cx="8575920" cy="138240"/>
          </a:xfrm>
        </p:grpSpPr>
        <p:sp>
          <p:nvSpPr>
            <p:cNvPr id="43"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46"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47"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 name="PlaceHolder 3"/>
          <p:cNvSpPr>
            <a:spLocks noGrp="1"/>
          </p:cNvSpPr>
          <p:nvPr>
            <p:ph type="dt" idx="4"/>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36FD2-0C31-4628-9624-9BD8A9E16A98}"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51" name="PlaceHolder 4"/>
          <p:cNvSpPr>
            <a:spLocks noGrp="1"/>
          </p:cNvSpPr>
          <p:nvPr>
            <p:ph type="ftr" idx="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F733E-16D5-4D63-B923-5C544379D6EC}"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Group 7"/>
          <p:cNvGrpSpPr/>
          <p:nvPr/>
        </p:nvGrpSpPr>
        <p:grpSpPr>
          <a:xfrm>
            <a:off x="284040" y="1577880"/>
            <a:ext cx="8575920" cy="136800"/>
            <a:chOff x="284040" y="1577880"/>
            <a:chExt cx="8575920" cy="136800"/>
          </a:xfrm>
        </p:grpSpPr>
        <p:sp>
          <p:nvSpPr>
            <p:cNvPr id="9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6"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BDCDF-D976-48BE-BA94-EA00C55F8C45}"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8E59F-844D-454E-A3B9-46405FC27235}"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6" name="Group 16"/>
          <p:cNvGrpSpPr/>
          <p:nvPr/>
        </p:nvGrpSpPr>
        <p:grpSpPr>
          <a:xfrm>
            <a:off x="284040" y="1906560"/>
            <a:ext cx="8575920" cy="138240"/>
            <a:chOff x="284040" y="1906560"/>
            <a:chExt cx="8575920" cy="138240"/>
          </a:xfrm>
        </p:grpSpPr>
        <p:sp>
          <p:nvSpPr>
            <p:cNvPr id="137"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40"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43"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3958A-3920-46CC-8B93-470324BD97FB}"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144"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AE59B-1A0C-4288-9591-5C1106ED451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3" name="Group 8"/>
          <p:cNvGrpSpPr/>
          <p:nvPr/>
        </p:nvGrpSpPr>
        <p:grpSpPr>
          <a:xfrm>
            <a:off x="284040" y="6262560"/>
            <a:ext cx="8575920" cy="138240"/>
            <a:chOff x="284040" y="6262560"/>
            <a:chExt cx="8575920" cy="138240"/>
          </a:xfrm>
        </p:grpSpPr>
        <p:sp>
          <p:nvSpPr>
            <p:cNvPr id="1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87"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8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90"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2F6A3-CCBE-4573-8D36-0BBD7F7FEE94}"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191"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2"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38A41-ED08-4EF0-8275-5E5B70A23096}"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0" name="Group 7"/>
          <p:cNvGrpSpPr/>
          <p:nvPr/>
        </p:nvGrpSpPr>
        <p:grpSpPr>
          <a:xfrm>
            <a:off x="284040" y="6262560"/>
            <a:ext cx="8575920" cy="138240"/>
            <a:chOff x="284040" y="6262560"/>
            <a:chExt cx="8575920" cy="138240"/>
          </a:xfrm>
        </p:grpSpPr>
        <p:sp>
          <p:nvSpPr>
            <p:cNvPr id="231"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2"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3"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34"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7"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DF609-F21E-48EE-A720-72465B98EAB2}"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238"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9"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1D992-8CAD-44DC-9BE9-D5173CFDB571}"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77" name="Group 7"/>
          <p:cNvGrpSpPr/>
          <p:nvPr/>
        </p:nvGrpSpPr>
        <p:grpSpPr>
          <a:xfrm>
            <a:off x="284040" y="1577880"/>
            <a:ext cx="8575920" cy="136800"/>
            <a:chOff x="284040" y="1577880"/>
            <a:chExt cx="8575920" cy="136800"/>
          </a:xfrm>
        </p:grpSpPr>
        <p:sp>
          <p:nvSpPr>
            <p:cNvPr id="278"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9"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8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8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83"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80E45-2077-4B7D-8E5B-6B894E539D03}"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284"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5"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13FE0-C0FF-481F-AF96-CD8FEB979F00}"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23" name="Group 7"/>
          <p:cNvGrpSpPr/>
          <p:nvPr/>
        </p:nvGrpSpPr>
        <p:grpSpPr>
          <a:xfrm>
            <a:off x="284040" y="1577880"/>
            <a:ext cx="8575920" cy="136800"/>
            <a:chOff x="284040" y="1577880"/>
            <a:chExt cx="8575920" cy="136800"/>
          </a:xfrm>
        </p:grpSpPr>
        <p:sp>
          <p:nvSpPr>
            <p:cNvPr id="324"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5"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6"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2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9"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8C519-ECCD-4100-8C70-F255A76DA728}"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330"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1"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549D9-7473-4F37-B10C-3B2F8C6AE8F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69" name="Group 7"/>
          <p:cNvGrpSpPr/>
          <p:nvPr/>
        </p:nvGrpSpPr>
        <p:grpSpPr>
          <a:xfrm>
            <a:off x="284040" y="1577880"/>
            <a:ext cx="8575920" cy="136800"/>
            <a:chOff x="284040" y="1577880"/>
            <a:chExt cx="8575920" cy="136800"/>
          </a:xfrm>
        </p:grpSpPr>
        <p:sp>
          <p:nvSpPr>
            <p:cNvPr id="37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7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7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5"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D5EBB-CF24-4885-BF95-9F3C1551E7FC}" type="datetime">
              <a:rPr b="1" lang="en-US" sz="1100" spc="-1" strike="noStrike">
                <a:solidFill>
                  <a:srgbClr val="a6a6a6"/>
                </a:solidFill>
                <a:latin typeface="Times New Roman"/>
              </a:rPr>
              <a:t>07/31/26</a:t>
            </a:fld>
            <a:endParaRPr b="0" lang="en-US" sz="1100" spc="-1" strike="noStrike">
              <a:solidFill>
                <a:srgbClr val="000000"/>
              </a:solidFill>
              <a:latin typeface="Times New Roman"/>
            </a:endParaRPr>
          </a:p>
        </p:txBody>
      </p:sp>
      <p:sp>
        <p:nvSpPr>
          <p:cNvPr id="376"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7"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679C5-DEE5-4F58-A3AE-A547DB74B064}"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soil</a:t>
            </a:r>
            <a:endParaRPr b="0" lang="en-US" sz="4200" spc="-1" strike="noStrike">
              <a:solidFill>
                <a:srgbClr val="ffffff"/>
              </a:solidFill>
              <a:latin typeface="Corbel"/>
            </a:endParaRPr>
          </a:p>
        </p:txBody>
      </p:sp>
      <p:sp>
        <p:nvSpPr>
          <p:cNvPr id="780" name=""/>
          <p:cNvSpPr txBox="1"/>
          <p:nvPr/>
        </p:nvSpPr>
        <p:spPr>
          <a:xfrm>
            <a:off x="283680" y="2133720"/>
            <a:ext cx="857412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iscuss salinization, nutrient depletion and soil pollution as causes of soil degradation.</a:t>
            </a:r>
            <a:endParaRPr b="0" lang="en-US" sz="3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escribe the relevance of the soil organic matter (SOM) in preventing soil degradation, and outline its physical and biological functions</a:t>
            </a:r>
            <a:endParaRPr b="0" lang="en-US" sz="3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List common organic soil pollutants and their sources.</a:t>
            </a:r>
            <a:r>
              <a:rPr b="0" lang="en-GB" sz="3200" spc="-1" strike="noStrike">
                <a:solidFill>
                  <a:srgbClr val="262626"/>
                </a:solidFill>
                <a:latin typeface="Calibri"/>
              </a:rPr>
              <a:t> </a:t>
            </a:r>
            <a:endParaRPr b="0" lang="en-US" sz="3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Soil pollutants</a:t>
            </a:r>
            <a:endParaRPr b="0" lang="en-US" sz="4200" spc="-1" strike="noStrike">
              <a:solidFill>
                <a:srgbClr val="ffffff"/>
              </a:solidFill>
              <a:latin typeface="Corbel"/>
            </a:endParaRPr>
          </a:p>
        </p:txBody>
      </p:sp>
      <p:graphicFrame>
        <p:nvGraphicFramePr>
          <p:cNvPr id="800" name=""/>
          <p:cNvGraphicFramePr/>
          <p:nvPr/>
        </p:nvGraphicFramePr>
        <p:xfrm>
          <a:off x="728640" y="2351160"/>
          <a:ext cx="7899480" cy="2286000"/>
        </p:xfrm>
        <a:graphic>
          <a:graphicData uri="http://schemas.openxmlformats.org/drawingml/2006/table">
            <a:tbl>
              <a:tblPr/>
              <a:tblGrid>
                <a:gridCol w="2911320"/>
                <a:gridCol w="4988160"/>
              </a:tblGrid>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troleum hydrocarbons (hydrocarbons from crude oil)</a:t>
                      </a:r>
                      <a:r>
                        <a:rPr b="0" lang="en-GB" sz="2400" spc="-1" strike="noStrike">
                          <a:solidFill>
                            <a:srgbClr val="000000"/>
                          </a:solidFill>
                          <a:latin typeface="Arial"/>
                          <a:ea typeface="Arial"/>
                        </a:rPr>
                        <a:t> </a:t>
                      </a:r>
                      <a:endParaRPr b="0" lang="en-US" sz="24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solidFill>
                      <a:srgbClr val="ef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ounds such as hexane, petrol, benzene, diesel oil, jet fuels, lubricating oi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rect spills, leaks (e.g. from landfills or underground storage tanks), being dumped</a:t>
                      </a:r>
                      <a:r>
                        <a:rPr b="0" lang="en-GB" sz="2400" spc="-1" strike="noStrike">
                          <a:solidFill>
                            <a:srgbClr val="000000"/>
                          </a:solidFill>
                          <a:latin typeface="Arial"/>
                          <a:ea typeface="Arial"/>
                        </a:rPr>
                        <a:t> </a:t>
                      </a:r>
                      <a:endParaRPr b="0" lang="en-US" sz="24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solidFill>
                      <a:srgbClr val="efe7e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salinization</a:t>
            </a:r>
            <a:endParaRPr b="0" lang="en-US" sz="4200" spc="-1" strike="noStrike">
              <a:solidFill>
                <a:srgbClr val="ffffff"/>
              </a:solidFill>
              <a:latin typeface="Corbel"/>
            </a:endParaRPr>
          </a:p>
        </p:txBody>
      </p:sp>
      <p:sp>
        <p:nvSpPr>
          <p:cNvPr id="782" name=""/>
          <p:cNvSpPr txBox="1"/>
          <p:nvPr/>
        </p:nvSpPr>
        <p:spPr>
          <a:xfrm>
            <a:off x="283680" y="1888920"/>
            <a:ext cx="8574120" cy="47718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alinization</a:t>
            </a:r>
            <a:r>
              <a:rPr b="0" lang="en-US" sz="3200" spc="-1" strike="noStrike">
                <a:solidFill>
                  <a:srgbClr val="262626"/>
                </a:solidFill>
                <a:latin typeface="Calibri"/>
              </a:rPr>
              <a:t> is the result of irrigating soils i.e. watering them. Water used for irrigation usually contains dissolved salts, which are left behind in the soil after the water evaporates.  </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In poorly drained soils, the salts left behind are not washed away and begin to accumulate in the topsoil. Plants cannot grow in soil that is too salty. </a:t>
            </a:r>
            <a:endParaRPr b="0" lang="en-US" sz="32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utrient depletion (1)</a:t>
            </a:r>
            <a:endParaRPr b="0" lang="en-US" sz="4200" spc="-1" strike="noStrike">
              <a:solidFill>
                <a:srgbClr val="ffffff"/>
              </a:solidFill>
              <a:latin typeface="Corbel"/>
            </a:endParaRPr>
          </a:p>
        </p:txBody>
      </p:sp>
      <p:sp>
        <p:nvSpPr>
          <p:cNvPr id="784" name=""/>
          <p:cNvSpPr txBox="1"/>
          <p:nvPr/>
        </p:nvSpPr>
        <p:spPr>
          <a:xfrm>
            <a:off x="283680" y="1904760"/>
            <a:ext cx="8574120" cy="46940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lants remove nutrients and minerals from the soil.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f the soil is not allowed to recover i.e. allowed time for the removed nutrients to be replaced through natural nutrient cycles the soil becomes depleted in nutrients and this will reduce future productivity.  Nutrients can also be replaced by using artificial fertilizers or compost.</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arvesting crops stops this natural nutrient cycle as the nutrients are removed permanently.</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noculture, i.e. growing the same crop time after time, accelerates nutrient depletion.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utrient depletion (2)</a:t>
            </a:r>
            <a:endParaRPr b="0" lang="en-US" sz="4200" spc="-1" strike="noStrike">
              <a:solidFill>
                <a:srgbClr val="ffffff"/>
              </a:solidFill>
              <a:latin typeface="Corbel"/>
            </a:endParaRPr>
          </a:p>
        </p:txBody>
      </p:sp>
      <p:sp>
        <p:nvSpPr>
          <p:cNvPr id="786"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Nutrient depletion can be prevented or slowed by: </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llowing soils to remain fallow (no crops are grown and nutrients can be replaced) for a while </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use crop rotation i.e. grow different crops which absorb different nutrients are some solutions.</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using artificial fertilizers or compost.</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soil pollution</a:t>
            </a:r>
            <a:endParaRPr b="0" lang="en-US" sz="4200" spc="-1" strike="noStrike">
              <a:solidFill>
                <a:srgbClr val="ffffff"/>
              </a:solidFill>
              <a:latin typeface="Corbel"/>
            </a:endParaRPr>
          </a:p>
        </p:txBody>
      </p:sp>
      <p:sp>
        <p:nvSpPr>
          <p:cNvPr id="788" name=""/>
          <p:cNvSpPr txBox="1"/>
          <p:nvPr/>
        </p:nvSpPr>
        <p:spPr>
          <a:xfrm>
            <a:off x="283680" y="2133720"/>
            <a:ext cx="8574120" cy="430992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Excessive use of chemicals such as </a:t>
            </a:r>
            <a:r>
              <a:rPr b="1" lang="en-US" sz="2800" spc="-1" strike="noStrike">
                <a:solidFill>
                  <a:srgbClr val="ff0000"/>
                </a:solidFill>
                <a:latin typeface="Calibri"/>
              </a:rPr>
              <a:t>pesticides</a:t>
            </a:r>
            <a:r>
              <a:rPr b="0" lang="en-US" sz="2800" spc="-1" strike="noStrike">
                <a:solidFill>
                  <a:srgbClr val="262626"/>
                </a:solidFill>
                <a:latin typeface="Calibri"/>
              </a:rPr>
              <a:t> and </a:t>
            </a:r>
            <a:r>
              <a:rPr b="1" lang="en-US" sz="2800" spc="-1" strike="noStrike">
                <a:solidFill>
                  <a:srgbClr val="ff0000"/>
                </a:solidFill>
                <a:latin typeface="Calibri"/>
              </a:rPr>
              <a:t>fertilizers</a:t>
            </a:r>
            <a:r>
              <a:rPr b="0" lang="en-US" sz="2800" spc="-1" strike="noStrike">
                <a:solidFill>
                  <a:srgbClr val="262626"/>
                </a:solidFill>
                <a:latin typeface="Calibri"/>
              </a:rPr>
              <a:t>. </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se chemicals can:</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disrupt the soil food web, </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reduce the soil’s biodiversity</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ultimately ruin the soil. </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se chemicals also run off the soil into surface waters and move through the soil, polluting groundwater.</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              </a:t>
            </a:r>
            <a:r>
              <a:rPr b="0" lang="en-US" sz="3800" spc="-1" strike="noStrike">
                <a:solidFill>
                  <a:srgbClr val="ffffff"/>
                </a:solidFill>
                <a:latin typeface="Corbel"/>
              </a:rPr>
              <a:t>Soil organic matter (SOM) includes</a:t>
            </a:r>
            <a:endParaRPr b="0" lang="en-US" sz="3800" spc="-1" strike="noStrike">
              <a:solidFill>
                <a:srgbClr val="ffffff"/>
              </a:solidFill>
              <a:latin typeface="Corbel"/>
            </a:endParaRPr>
          </a:p>
        </p:txBody>
      </p:sp>
      <p:sp>
        <p:nvSpPr>
          <p:cNvPr id="790" name=""/>
          <p:cNvSpPr txBox="1"/>
          <p:nvPr/>
        </p:nvSpPr>
        <p:spPr>
          <a:xfrm>
            <a:off x="283680" y="1888920"/>
            <a:ext cx="8574120" cy="46940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lant and animal tissue such as leaves, twigs, animal parts e.g. skin, hair, ... that have not been decomposed yet.</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composition products of those animal and plant tissues such as: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molecular-mass organic materials such as polysaccharides and proteins and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mpler organic substances such as sugars, amino acids and other small molecule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umus which is what is left after plant and animal tissues are not being decomposed anymore.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SOM prevents soil degradation </a:t>
            </a:r>
            <a:endParaRPr b="0" lang="en-US" sz="4200" spc="-1" strike="noStrike">
              <a:solidFill>
                <a:srgbClr val="ffffff"/>
              </a:solidFill>
              <a:latin typeface="Corbel"/>
            </a:endParaRPr>
          </a:p>
        </p:txBody>
      </p:sp>
      <p:sp>
        <p:nvSpPr>
          <p:cNvPr id="792" name=""/>
          <p:cNvSpPr txBox="1"/>
          <p:nvPr/>
        </p:nvSpPr>
        <p:spPr>
          <a:xfrm>
            <a:off x="283680" y="1874520"/>
            <a:ext cx="8574120" cy="46926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unctions of SOM can be broadly classified into two group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iological</a:t>
            </a:r>
            <a:r>
              <a:rPr b="0" lang="en-US" sz="2400" spc="-1" strike="noStrike">
                <a:solidFill>
                  <a:srgbClr val="262626"/>
                </a:solidFill>
                <a:latin typeface="Calibri"/>
              </a:rPr>
              <a:t>: provides nutrients for the plants, in particular nitrogen, as it provides amines and amino acid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hysical</a:t>
            </a:r>
            <a:r>
              <a:rPr b="0" lang="en-US" sz="2400" spc="-1" strike="noStrike">
                <a:solidFill>
                  <a:srgbClr val="262626"/>
                </a:solidFill>
                <a:latin typeface="Calibri"/>
              </a:rPr>
              <a:t>: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mproves structural stability,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fluences water-retention properties:  the OH</a:t>
            </a:r>
            <a:r>
              <a:rPr b="0" lang="en-US" sz="2400" spc="-1" strike="noStrike" baseline="30000">
                <a:solidFill>
                  <a:srgbClr val="262626"/>
                </a:solidFill>
                <a:latin typeface="Calibri"/>
              </a:rPr>
              <a:t>-</a:t>
            </a:r>
            <a:r>
              <a:rPr b="0" lang="en-US" sz="2400" spc="-1" strike="noStrike">
                <a:solidFill>
                  <a:srgbClr val="262626"/>
                </a:solidFill>
                <a:latin typeface="Calibri"/>
              </a:rPr>
              <a:t> and NH</a:t>
            </a:r>
            <a:r>
              <a:rPr b="0" lang="en-US" sz="2400" spc="-1" strike="noStrike" baseline="-25000">
                <a:solidFill>
                  <a:srgbClr val="262626"/>
                </a:solidFill>
                <a:latin typeface="Calibri"/>
              </a:rPr>
              <a:t>2</a:t>
            </a:r>
            <a:r>
              <a:rPr b="0" lang="en-US" sz="2400" spc="-1" strike="noStrike">
                <a:solidFill>
                  <a:srgbClr val="262626"/>
                </a:solidFill>
                <a:latin typeface="Calibri"/>
              </a:rPr>
              <a:t> groups on the SOM molecules allow hydrogen bonding between these molecules and water molecules in the soil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ters the soil thermal propertie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pollutants</a:t>
            </a:r>
            <a:endParaRPr b="0" lang="en-US" sz="4200" spc="-1" strike="noStrike">
              <a:solidFill>
                <a:srgbClr val="ffffff"/>
              </a:solidFill>
              <a:latin typeface="Corbel"/>
            </a:endParaRPr>
          </a:p>
        </p:txBody>
      </p:sp>
      <p:sp>
        <p:nvSpPr>
          <p:cNvPr id="79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graphicFrame>
        <p:nvGraphicFramePr>
          <p:cNvPr id="795" name=""/>
          <p:cNvGraphicFramePr/>
          <p:nvPr/>
        </p:nvGraphicFramePr>
        <p:xfrm>
          <a:off x="309600" y="1843200"/>
          <a:ext cx="8548560" cy="4708440"/>
        </p:xfrm>
        <a:graphic>
          <a:graphicData uri="http://schemas.openxmlformats.org/drawingml/2006/table">
            <a:tbl>
              <a:tblPr/>
              <a:tblGrid>
                <a:gridCol w="1765440"/>
                <a:gridCol w="6783120"/>
              </a:tblGrid>
              <a:tr h="515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lutant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r>
              <a:tr h="982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Agrichemical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fe7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ticides (insecticides, fungicides, herbicides), fertilizers, growth hormones through direct application which is fine if controlled; problem is spills and overuse.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fe7e7"/>
                    </a:solidFill>
                  </a:tcPr>
                </a:tc>
              </a:tr>
              <a:tr h="128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Hydrocarbon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7e7"/>
                    </a:solidFill>
                  </a:tcPr>
                </a:tc>
                <a:tc>
                  <a:txBody>
                    <a:bodyPr lIns="68760" rIns="6876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port, solvents, direct spills, leaks (e.g. from landfills or underground storage tanks), </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lls/leaks/dumping of dry cleaning solvents, paint thinners, nail polish remover, detergents,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7e7"/>
                    </a:solidFill>
                  </a:tcPr>
                </a:tc>
              </a:tr>
              <a:tr h="1925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Polynuclear aromatic hydrocarbons (PA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cbcb"/>
                    </a:solidFill>
                  </a:tcPr>
                </a:tc>
                <a:tc>
                  <a:txBody>
                    <a:bodyPr lIns="68760" rIns="6876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s common in coal, tar e.g. creosote which is used to preserve wood in buildings, fences, ships.</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Hs are present in coal and crude oil and are released during combustion</a:t>
                      </a:r>
                      <a:r>
                        <a:rPr b="1" lang="en-US" sz="1800" spc="-1" strike="noStrike">
                          <a:solidFill>
                            <a:srgbClr val="000000"/>
                          </a:solidFill>
                          <a:latin typeface="Arial"/>
                        </a:rPr>
                        <a:t> </a:t>
                      </a:r>
                      <a:r>
                        <a:rPr b="0" lang="en-US" sz="1800" spc="-1" strike="noStrike">
                          <a:solidFill>
                            <a:srgbClr val="000000"/>
                          </a:solidFill>
                          <a:latin typeface="Arial"/>
                        </a:rPr>
                        <a:t>e.g</a:t>
                      </a:r>
                      <a:r>
                        <a:rPr b="1" lang="en-US" sz="1800" spc="-1" strike="noStrike">
                          <a:solidFill>
                            <a:srgbClr val="000000"/>
                          </a:solidFill>
                          <a:latin typeface="Arial"/>
                        </a:rPr>
                        <a:t>. </a:t>
                      </a:r>
                      <a:r>
                        <a:rPr b="0" lang="en-US" sz="1800" spc="-1" strike="noStrike">
                          <a:solidFill>
                            <a:srgbClr val="000000"/>
                          </a:solidFill>
                          <a:latin typeface="Arial"/>
                        </a:rPr>
                        <a:t>industrial/power station emission and from incinerato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cbc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pollutants</a:t>
            </a:r>
            <a:endParaRPr b="0" lang="en-US" sz="4200" spc="-1" strike="noStrike">
              <a:solidFill>
                <a:srgbClr val="ffffff"/>
              </a:solidFill>
              <a:latin typeface="Corbel"/>
            </a:endParaRPr>
          </a:p>
        </p:txBody>
      </p:sp>
      <p:sp>
        <p:nvSpPr>
          <p:cNvPr id="797"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graphicFrame>
        <p:nvGraphicFramePr>
          <p:cNvPr id="798" name=""/>
          <p:cNvGraphicFramePr/>
          <p:nvPr/>
        </p:nvGraphicFramePr>
        <p:xfrm>
          <a:off x="284040" y="1598760"/>
          <a:ext cx="8574120" cy="4609800"/>
        </p:xfrm>
        <a:graphic>
          <a:graphicData uri="http://schemas.openxmlformats.org/drawingml/2006/table">
            <a:tbl>
              <a:tblPr/>
              <a:tblGrid>
                <a:gridCol w="2363760"/>
                <a:gridCol w="6210360"/>
              </a:tblGrid>
              <a:tr h="407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lutant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r>
              <a:tr h="869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Polychlorinated biphenyls (PCB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fe7e7"/>
                    </a:solidFill>
                  </a:tcPr>
                </a:tc>
                <a:tc>
                  <a:txBody>
                    <a:bodyPr lIns="68760" rIns="6876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ks from electrical insulators, transformers, circuit breakers, electromagnets, hydraulic oils, pai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fe7e7"/>
                    </a:solidFill>
                  </a:tcPr>
                </a:tc>
              </a:tr>
              <a:tr h="21949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Organotin compound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7e7"/>
                    </a:solidFill>
                  </a:tcPr>
                </a:tc>
                <a:tc>
                  <a:txBody>
                    <a:bodyPr lIns="68760" rIns="6876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unds which contain at least one bond between tin and a hydrocarbon chain</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manufacture of antifouling compounds (coatings or paints) which prevent organisms (e.g. barnacles) from growing on surfaces exposed to water</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cide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ticides / biocidal agents;</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7e7"/>
                    </a:solidFill>
                  </a:tcPr>
                </a:tc>
              </a:tr>
              <a:tr h="11372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Dioxin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cbcb"/>
                    </a:solidFill>
                  </a:tcPr>
                </a:tc>
                <a:tc>
                  <a:txBody>
                    <a:bodyPr lIns="68760" rIns="6876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ineration plants, wood burning, herbicides</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ead trough the air and settle on soi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cbcb"/>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3T09:14:03Z</dcterms:created>
  <dc:creator>Client Admin</dc:creator>
  <dc:description/>
  <dc:language>en-US</dc:language>
  <cp:lastModifiedBy>Nico Van De Casteele</cp:lastModifiedBy>
  <dcterms:modified xsi:type="dcterms:W3CDTF">2014-02-28T05:37:09Z</dcterms:modified>
  <cp:revision>13</cp:revision>
  <dc:subject/>
  <dc:title>Soil                                 : soil degradation</dc:title>
</cp:coreProperties>
</file>